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8C7-B4D5-4851-893B-97FF145B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09D-3268-487B-B0F0-B42D4AE4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409-2947-4419-94B1-9162987D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A6F-1378-45CE-9905-27E2AAF7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25E2-AD4A-4EF2-9123-E2DB8BFE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03B-7160-4594-BE69-023DD37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B097-1D55-49FC-84F6-25828EE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0C69-78AA-4506-BB0D-1A4F6CF7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6930-FB3F-4DBF-B350-8611F26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581E-B996-454C-BB73-0D3F2A0B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6BB0-2A26-44DF-AD81-F692F64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EEF-5996-4763-A113-26B62F6F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50CD-A421-4C3B-8C15-EA7D98B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363-FAAB-4D09-8CDB-E299A5B0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43E-A3DD-473B-9181-A0586C09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910F-F024-4E5C-913A-63674231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FB7-80F0-41AC-BEC6-617D12D0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93F8-3EEB-43C5-A36B-748C5ACB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CE4A-A9A4-4199-8173-1FDB199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62A4-0309-46FE-BDDB-FFAE5F2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23C1-6B83-4031-8F76-588C8DA6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11F6-C64C-4EC8-B877-7A70CC4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4B9-D8C5-4245-A00C-7943E82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0A49-F37E-4EDC-9620-D2B8D8C7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ADC6-CC8B-4CB2-839E-FD95347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BBAC-6879-405E-8CFC-7947E6F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9EE8-5998-4829-B6C3-965FB14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AEB4-18C1-46B8-B127-AD1A95FA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B718-6FDE-41C4-9C5D-3B570BC5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37EA-D124-4786-B46F-A40A0951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D2AF-6D84-487D-9008-64F494D3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A55C-924D-445E-B97B-74E3ECD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C0C9-008F-4705-A8CB-5023D58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704-6973-4BB8-A9A3-AF4C16EE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D6A8-5ABC-4FBD-8C3D-0D87861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F8CC-C78B-4606-A112-DE91E653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81DFF-6CBA-4A6D-A626-3E755AD5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DF8D-B8B2-4544-BEEE-B7822723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BF4B-C857-4FB0-92F4-85478F1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2F2D-C37D-4030-AC0B-3BEABBA7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7148-0F38-4775-9366-45BC276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98F2-D89F-4FCF-BFA6-5A9863A8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F0C0-4D5F-4FD7-B57B-E4ACC84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0C4-27A7-444D-9D03-2EB419B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49C-F5D6-43B4-8918-8807E51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412-572B-4B4F-938B-6FBCD4F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10A-CE50-47D9-9C1D-4CB5C78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D79-25BF-48A3-AEC8-4318DA1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448-2CBB-472E-BBA3-84A5AB3D19D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1876-977B-4588-8654-DF2A8030B264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D021-0D4E-4773-B59B-E8F441FFC5CA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EA2-7B61-4C02-B278-6CFAC22F2B8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nstantia"/>
              </a:rPr>
              <a:t>Course Overview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4.bp.blogspot.com/_GeQ1BRP5vYw/SSKUVIJrPwI/AAAAAAAAABs/qePEOm-5-B8/S1600-R/Media+Studies+Banner.jpg"/>
          <p:cNvPicPr/>
          <p:nvPr/>
        </p:nvPicPr>
        <p:blipFill>
          <a:blip r:embed="rId2"/>
          <a:stretch/>
        </p:blipFill>
        <p:spPr>
          <a:xfrm>
            <a:off x="5435640" y="4365720"/>
            <a:ext cx="3313080" cy="208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http://gallery.hd.org/_exhibits/bizarre/pseudoscience-homeopathy-and-mobile-phones-local-newspaper-front-page-story-1bit-mono-1-DHD.gif"/>
          <p:cNvPicPr/>
          <p:nvPr/>
        </p:nvPicPr>
        <p:blipFill>
          <a:blip r:embed="rId3"/>
          <a:stretch/>
        </p:blipFill>
        <p:spPr>
          <a:xfrm>
            <a:off x="0" y="0"/>
            <a:ext cx="2200320" cy="299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novi.lib.mi.us/includes/FilmReel.jpg"/>
          <p:cNvPicPr/>
          <p:nvPr/>
        </p:nvPicPr>
        <p:blipFill>
          <a:blip r:embed="rId4"/>
          <a:stretch/>
        </p:blipFill>
        <p:spPr>
          <a:xfrm>
            <a:off x="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://www.bbc.co.uk/blogs/jeffzycinski/2008/02/images/dabradio.jpg"/>
          <p:cNvPicPr/>
          <p:nvPr/>
        </p:nvPicPr>
        <p:blipFill>
          <a:blip r:embed="rId5"/>
          <a:stretch/>
        </p:blipFill>
        <p:spPr>
          <a:xfrm>
            <a:off x="0" y="5229360"/>
            <a:ext cx="1763640" cy="162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http://www.bristol.indymedia.org/attachments/sep2008/rwm.jpg"/>
          <p:cNvPicPr/>
          <p:nvPr/>
        </p:nvPicPr>
        <p:blipFill>
          <a:blip r:embed="rId6"/>
          <a:stretch/>
        </p:blipFill>
        <p:spPr>
          <a:xfrm>
            <a:off x="2195640" y="0"/>
            <a:ext cx="1562040" cy="18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http://i.models.com/rankings/money/i/filippamg.jpg"/>
          <p:cNvPicPr/>
          <p:nvPr/>
        </p:nvPicPr>
        <p:blipFill>
          <a:blip r:embed="rId7"/>
          <a:stretch/>
        </p:blipFill>
        <p:spPr>
          <a:xfrm>
            <a:off x="2195640" y="1844640"/>
            <a:ext cx="2496960" cy="338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http://www.canterbury.ac.uk/courses/images/course-images/digital-media400x297.jpg"/>
          <p:cNvPicPr/>
          <p:nvPr/>
        </p:nvPicPr>
        <p:blipFill>
          <a:blip r:embed="rId8"/>
          <a:stretch/>
        </p:blipFill>
        <p:spPr>
          <a:xfrm>
            <a:off x="1763640" y="5146560"/>
            <a:ext cx="2563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EX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Section A – 1 hour and 15 min viewing/reading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3 compulsory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seen stimulus materials – print, e-media, audio or moving im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te taking and planning essent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dia issues and deb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Section B – 1 ho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e compulsory question from a choice of fo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estions linked to pre-set top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ndidates must use examples from texts they have studi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755640" y="1557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wo hour paper, marked out of 80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Worth 25% of A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www.theblackandwhite.net/wp-content/uploads/2010/06/exam.gif"/>
          <p:cNvPicPr/>
          <p:nvPr/>
        </p:nvPicPr>
        <p:blipFill>
          <a:blip r:embed="rId1"/>
          <a:stretch/>
        </p:blipFill>
        <p:spPr>
          <a:xfrm>
            <a:off x="7799400" y="0"/>
            <a:ext cx="13446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UNIT 4 – Research and Produ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ritical investigation (48 mark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inked production piece (32 mark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unit is intended to enable candidates to explore a text, theme, issue or debate relevant to contemporary media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ernally assessed and externally moder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orth 25% of A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itical Investig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sented as a written report of 2000 w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ust have a clearly focused tit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hould be textually foc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You will need to collect and evaluate evide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nked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ust show development from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hould demonstrate confident use of chosen technology and key concepts/media conven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hould follow directly from investigation pie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camera.jpg image by LightHouseMedia"/>
          <p:cNvPicPr/>
          <p:nvPr/>
        </p:nvPicPr>
        <p:blipFill>
          <a:blip r:embed="rId1"/>
          <a:stretch/>
        </p:blipFill>
        <p:spPr>
          <a:xfrm>
            <a:off x="6588000" y="907920"/>
            <a:ext cx="20163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Critical investig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Gender representation in soap oper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iral marketing techniq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temporary men’s lifestyle magaz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Linked p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opening sequence for an episode of a new soap op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viral advertisement suitable for distribution by mobile ph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ock up of the first edition of a new men’s lifestyle magaz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arning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examine the role of the media in today’s socie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look at social, economic, political and historical contex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understand media the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link media research and practical production relevant to the contemporary media landsca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://www.ism.stir.ac.uk/images/Media.JPG"/>
          <p:cNvPicPr/>
          <p:nvPr/>
        </p:nvPicPr>
        <p:blipFill>
          <a:blip r:embed="rId1"/>
          <a:stretch/>
        </p:blipFill>
        <p:spPr>
          <a:xfrm>
            <a:off x="6875640" y="836640"/>
            <a:ext cx="2017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– Critical Persp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wo pre-set topic areas for study throughout the ye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1) Representations in the 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2) The impact of new/digital 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ach candidate MUST produce an individual case study of their own choice for each pre set top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www.outregallery.com/images/products/headlines.jpg"/>
          <p:cNvPicPr/>
          <p:nvPr/>
        </p:nvPicPr>
        <p:blipFill>
          <a:blip r:embed="rId1"/>
          <a:stretch/>
        </p:blipFill>
        <p:spPr>
          <a:xfrm>
            <a:off x="7737480" y="4948200"/>
            <a:ext cx="14065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Re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class, we will study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mages of ...... across a range of me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tereotyp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presentation and gen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ider con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oss-cultural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effect of globalisation on represen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Values and ideolog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www.cartoonstock.com/lowres/rjo0987l.jpg"/>
          <p:cNvPicPr/>
          <p:nvPr/>
        </p:nvPicPr>
        <p:blipFill>
          <a:blip r:embed="rId1"/>
          <a:stretch/>
        </p:blipFill>
        <p:spPr>
          <a:xfrm>
            <a:off x="5724360" y="1916280"/>
            <a:ext cx="3200400" cy="259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www.businesspundit.com/wp-content/uploads/2009/06/zzaudience.gif"/>
          <p:cNvPicPr/>
          <p:nvPr/>
        </p:nvPicPr>
        <p:blipFill>
          <a:blip r:embed="rId2"/>
          <a:stretch/>
        </p:blipFill>
        <p:spPr>
          <a:xfrm>
            <a:off x="7020000" y="5445000"/>
            <a:ext cx="190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Re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will be expected to complete your own research into a case stud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vious examples includ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refugees in British newspap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Los Angeles in Hollywood fil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teenagers in British soap operas and fil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presentation of celebrities in newspapers and magaz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- Re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ple Case Study – refugees in British newspap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esearch into and documentation of the treatment of refugees in a variety of newspapers (or just on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udy of the political and social reasons for the construction of such represent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possible effects on the audience of the newspap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ation of this representation across other media platfor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ways ask WHY? Why do these representations exis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deathby1000papercuts.com/wp-content/uploads/2009/08/illegal-immigrant-sign.jpg"/>
          <p:cNvPicPr/>
          <p:nvPr/>
        </p:nvPicPr>
        <p:blipFill>
          <a:blip r:embed="rId1"/>
          <a:stretch/>
        </p:blipFill>
        <p:spPr>
          <a:xfrm>
            <a:off x="7308720" y="260280"/>
            <a:ext cx="13939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– New/Digital Med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class we will study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interactive consu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networ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logs/podcasts/inter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role of media institu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media and democ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changing role of the distributor and exhibi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ew technologies and audi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www.cartforge.com/images/stock/social-networking-logos3.jpg"/>
          <p:cNvPicPr/>
          <p:nvPr/>
        </p:nvPicPr>
        <p:blipFill>
          <a:blip r:embed="rId1"/>
          <a:stretch/>
        </p:blipFill>
        <p:spPr>
          <a:xfrm>
            <a:off x="5508720" y="2349360"/>
            <a:ext cx="27604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 – New/Digital Med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will be expected to complete your own research into a case stud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vious examples inclu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impact of mobile 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impact of social networking sites such as My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ase study of 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http://www.ifc.com/makemediamatter/wikipedia-logo.png"/>
          <p:cNvPicPr/>
          <p:nvPr/>
        </p:nvPicPr>
        <p:blipFill>
          <a:blip r:embed="rId1"/>
          <a:stretch/>
        </p:blipFill>
        <p:spPr>
          <a:xfrm>
            <a:off x="7308720" y="4869000"/>
            <a:ext cx="1409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UNIT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roughout the course, you will also examine media issues, theories and deb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332000" y="4149720"/>
            <a:ext cx="1295280" cy="1008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nstantia"/>
              </a:rPr>
              <a:t>Media Issues and Deb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56360" y="4149720"/>
            <a:ext cx="1295280" cy="1008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nstantia"/>
              </a:rPr>
              <a:t>Media The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313200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ality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268360" y="5445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News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79280" y="3789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oral Pa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24000" y="5445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st 9/11 and th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3203640" y="4437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Ownership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971640" y="2924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gulation and ce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7524720" y="3357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emi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4859280" y="335772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tructuralism + post struct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948360" y="573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stmoder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7812000" y="443700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Gender and Ethn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4716360" y="49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arx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4572000" y="5950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st-colon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8"/>
          <p:cNvSpPr/>
          <p:nvPr/>
        </p:nvSpPr>
        <p:spPr>
          <a:xfrm flipH="1" flipV="1">
            <a:off x="1834920" y="3789360"/>
            <a:ext cx="36360" cy="433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0"/>
          <p:cNvSpPr/>
          <p:nvPr/>
        </p:nvSpPr>
        <p:spPr>
          <a:xfrm flipH="1">
            <a:off x="1186920" y="5157720"/>
            <a:ext cx="36036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22"/>
          <p:cNvSpPr/>
          <p:nvPr/>
        </p:nvSpPr>
        <p:spPr>
          <a:xfrm flipH="1" flipV="1">
            <a:off x="900000" y="4149720"/>
            <a:ext cx="43200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4"/>
          <p:cNvSpPr/>
          <p:nvPr/>
        </p:nvSpPr>
        <p:spPr>
          <a:xfrm flipV="1">
            <a:off x="2627280" y="3789360"/>
            <a:ext cx="720720" cy="503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26"/>
          <p:cNvSpPr/>
          <p:nvPr/>
        </p:nvSpPr>
        <p:spPr>
          <a:xfrm>
            <a:off x="2411280" y="5157720"/>
            <a:ext cx="21600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28"/>
          <p:cNvSpPr/>
          <p:nvPr/>
        </p:nvSpPr>
        <p:spPr>
          <a:xfrm flipV="1">
            <a:off x="2627280" y="4760640"/>
            <a:ext cx="576360" cy="3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30"/>
          <p:cNvSpPr/>
          <p:nvPr/>
        </p:nvSpPr>
        <p:spPr>
          <a:xfrm flipH="1" flipV="1">
            <a:off x="5724360" y="4005360"/>
            <a:ext cx="43200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2"/>
          <p:cNvSpPr/>
          <p:nvPr/>
        </p:nvSpPr>
        <p:spPr>
          <a:xfrm flipH="1">
            <a:off x="5796000" y="5157720"/>
            <a:ext cx="504720" cy="719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34"/>
          <p:cNvSpPr/>
          <p:nvPr/>
        </p:nvSpPr>
        <p:spPr>
          <a:xfrm flipV="1">
            <a:off x="7451640" y="3716280"/>
            <a:ext cx="576360" cy="50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6"/>
          <p:cNvSpPr/>
          <p:nvPr/>
        </p:nvSpPr>
        <p:spPr>
          <a:xfrm>
            <a:off x="7164360" y="5157720"/>
            <a:ext cx="503280" cy="574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38"/>
          <p:cNvSpPr/>
          <p:nvPr/>
        </p:nvSpPr>
        <p:spPr>
          <a:xfrm flipV="1">
            <a:off x="7451640" y="4581000"/>
            <a:ext cx="433440" cy="71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40"/>
          <p:cNvSpPr/>
          <p:nvPr/>
        </p:nvSpPr>
        <p:spPr>
          <a:xfrm flipH="1">
            <a:off x="5435640" y="4653000"/>
            <a:ext cx="720720" cy="288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52:42Z</dcterms:created>
  <dc:creator>Grainne</dc:creator>
  <dc:description/>
  <dc:language>en-US</dc:language>
  <cp:lastModifiedBy>Grainne</cp:lastModifiedBy>
  <dcterms:modified xsi:type="dcterms:W3CDTF">2010-08-31T10:53:47Z</dcterms:modified>
  <cp:revision>32</cp:revision>
  <dc:subject/>
  <dc:title>A Level Media Studies</dc:title>
</cp:coreProperties>
</file>